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52A-0AD6-42F1-B437-61396037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486-65D1-460E-8154-EE083EAC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A67-E400-4D13-97DF-F1FC75EC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D89-A5AE-4DB0-AA69-99BAC4CB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457-340D-4D5C-96F9-23E08308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101-9D48-4433-9873-487F135B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E73-2EF3-49C2-8460-507F3F7A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17B-0486-4117-B7E4-1AA7876E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DE5-3E0D-4670-BBA0-044D05F7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3D1-ABD6-4037-B77B-27B02EA1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625-062D-4618-B7F2-189F4D2F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0B9-1BDC-4601-B747-FEBBBD86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DCC9-7801-4ACD-9EE1-6B3D9F2B3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adikcije na mentalno zdravlj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avremeni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ncept le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INTEGRISANE AKADEMSKE STUDIJE FARMACIJ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I12 - ZLOUPOTREBA I ZAVISNOST OD LEKOVA I P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898989"/>
                </a:solidFill>
                <a:latin typeface="Calibri"/>
              </a:rPr>
              <a:t>Prof dr Mirjana Jovanovi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898989"/>
                </a:solidFill>
                <a:latin typeface="Calibri"/>
              </a:rPr>
              <a:t>201</a:t>
            </a:r>
            <a:r>
              <a:rPr b="0" lang="sr-RS" sz="2000" spc="-1" strike="noStrike">
                <a:solidFill>
                  <a:srgbClr val="898989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Minja\Pictures\grb med.fak.bmp"/>
          <p:cNvPicPr/>
          <p:nvPr/>
        </p:nvPicPr>
        <p:blipFill>
          <a:blip r:embed="rId1"/>
          <a:stretch/>
        </p:blipFill>
        <p:spPr>
          <a:xfrm>
            <a:off x="990720" y="609480"/>
            <a:ext cx="68580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Minja\Pictures\grb univerziteta.bmp"/>
          <p:cNvPicPr/>
          <p:nvPr/>
        </p:nvPicPr>
        <p:blipFill>
          <a:blip r:embed="rId2"/>
          <a:stretch/>
        </p:blipFill>
        <p:spPr>
          <a:xfrm>
            <a:off x="7391520" y="762120"/>
            <a:ext cx="6667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ubstrati odgovorni za efekat nagrade i mesto del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447920"/>
          <a:ext cx="8229600" cy="2646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imulan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ij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k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ko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pa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ioidni re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tilho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57200" y="4419720"/>
          <a:ext cx="8229600" cy="1815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KL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UMB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GD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AL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G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krining meto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Alkoho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.AUDIT upitnik(Alcohol Use Disorders Identification Test)-WHO/NIAA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2.CAGE upitnik,3.Rapid Alcohol Problem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Opija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.Drug Abuse Screening Test (D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2.Addiction Severity Index (AS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.Alcohol and Drug Diagnostic Instrument (ADD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4.Substance Use Diagnostic Instrument (SUD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Tretman bola i ri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ticaj hroničnog bola na spavanje,temperament,nivo stresa,opšte funkcionisanje,funkcionisanje na poslu,socijalne relacije-može se meriti skrining instrumentom za bol-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Brief Pain Inven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godan i za procenu potencijalnog rizika od zloupotrebe i zavisnosti od opioida koji se izdaju na lekarski recept-uključujući i štetne posledice (bol kod hroničnih bolesti,kancera,palijativna nega,pacijenti na supstitucionoj terapiji sa hroničnim bol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ATLURI Screening Tool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linički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strument pogodan za detekciju problematičnog korišćenja opioidnih analge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Opioidni analgeti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orf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MORPHINI HYDROCHLORIDUM (Alkaloid Makedonija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idromorf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JURNISTA (Janssen Pharmaceutica Belgija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etidin hidrohlori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DOLANTIN 100 (Sanofi Aventis Nemačka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utorfano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MORADOL (Galenika Srbija),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entan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DUROGESIC (Janssen Pharmaceutica Belgija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ilid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VALORON (Hemofarm Srbija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ramado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MADOL (Panfarma Srbija), TRAMAFLASH (Pharmaswiss Srbija), TRODON (Hemofarm Koncern "Zorka Pharma" Srbija), SINTRADON (Zdravlje Srbija), PROTRADON (Pro.Med.CS Praha Češka), TRAMA 24 RETARD (Lannacher Heilmittel Austr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Neuroplastičnost i gluta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zirom da je, transmisija glutamata, jedan od primarnih neurohemijskih supstrata sinaptičke plastičnosti i da postoji obilje dokaza, da sve droge koje se zloupotrebljavaju, dolaze u interakciju sa glutamatskom transmisijom,nije iznenađenje da droge mogu izazvati dugotrajnu neuroadaptaciju glutamatskog sistema u mozg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ve adaptacije, na neki način, vode ka kompulzivnom korišćenju droga,gubitku volje,predimenzioniranju značaja okruženja,što su sve karakteristike adikcij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Tretman u perspekti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a aspekta perspektive tretmana,buduća istraživanja treba da budu fokusirana na promene u transmisiji glutamata ,tako da mogu da budu sigurno i efikasno targetirane farmakološkim ili genetskim intervencijama-koje bi se mogle suprotstaviti adaptivnim promenama u mozgu nastalim prolongiranim uzimanjem P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akođe bi mogle da promovišu novu plastičnost, koja bi pomogla individualnom vraćanju voljne kontrole nad uzimanjem droge i ugasila memoriju i žudnju povezanu sa uzimanjem dro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Opijati i depres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ehanizmi pomoću kojih opijati doprinose pojavi depresije su nejasni ali najverovatnije,multifaktorsk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eki od mogućih mehanizam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. opioidima-indukovano resetovanje “puta nagrade” na viši prag,što rezultira nemogućnošću da prirodne nagrade generišu osećaj zadovoljstvai/ili olakšanja (Hyman,2006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panagel R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1993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2.preterana aktivno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pa receptor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vezana sa prekidom uzimanja opijata ,praćena disforijom i bolovima u telu i godinama nakon prekida unosa opioida (Spanagel R, 199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Opijati i depres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Putem medicinskih abnormalnosti povezanih sa korišćenjem opijata (napr. deficit hormona nadbubrega ,testosterona i vitamina D kao i disregulacija glukoze) koji mogu predstavljati fizičke korelate major depresije ( George S,2005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 li kolateralni tretman može da pomogne da se prevenira depresija povezana sa korišćenjem opioid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taje da se proveri putem daljih istraž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Dnevna doza morfina,dužina uzimanja i depres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471680" y="2128680"/>
            <a:ext cx="62006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izik da supstancom-indukovana psihoza preraste u shizofreni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Evid Based Ment Health,2013;16(3):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ospektivna kohortna studija/Fin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d 18478 pacijenata sa SIP,većina,čak 85.4%-indukovana je alkoholom;amfetaminom-4.5% i kanabisom 0.7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jveći rizik da razviju shizofreniju imali su oni koji su koristili marihuanu-46%,amfetamine-30% i alkohol 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ji pacijenti sa SIP dijagnozom značajnije su bili povezani sa konverzijom  u shizofreni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ji od 30 godina u manjem riziku od dijagnostikovanja shizofrenije u follow-up periodu od 8 go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lađi od 30 godina u većem riziku od dijagnostikovanja s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 nivou populacije Finske-to je oko 5.4% od svih slučajeva sch spek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Kompetentnost medicinskih profesionala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cionalno istraživanje sprovedeno 2011. godine u SAD, koje se odnosi na kvalitet medicinskog tretmana i nege, pokazalo je da među ispitanicima vlada sledeće mišljenj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40% ispitanika ukazuje na nedostatak stručnosti  profesionalaca u tretmanu alkoholiz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26% ispitanika smatra da su profesionalci nekompetentni- posebno kada su u pitanju brze intervencije kod pacijenata obolelih od bolesti zavis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5% smatra da postoji nedostatak stručnosti kada je u pitanju tretman pacijenata koji boluju od bolesti zavisnosti i ,u isto vreme,psihijatrijsk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Tretman bolesti zavis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762120"/>
          <a:ext cx="8229600" cy="453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3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lest zavis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kovi  dostupni u tretmanu b.zavis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asne interakcije sa psihijatrijskim lekov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koholna zavis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ulfi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ampro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ma-hidroksibutirat-GH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-triciklici,irev.MAOi;BZ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ltrex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koholna/Opijatska zavis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ltrex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dein,mor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ampros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1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ijatska  zavis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d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prenor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prenorfin/Nalox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kohol,risperidon,BZD,buprenorfin,zolpidem,triciklični AD,SS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itromicin,karbamazepin,fenobarbital,BZD,ntipsihotici,morfin,metad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Tretman bolesti zavis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3662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lest zavis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stupan tret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REZ!!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kotinska zavis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prop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eniklin tartr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kotinske zam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ipriprazol,escitalop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dermalni niko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enik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oinska i nikotinska apstinencijalna kri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onid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ipriprazol,zolpidem,triciklici,pregabalin,kvetiap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kainska zavis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prop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xtroamfeta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afini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Oi,SSRI,karbamazep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ZD,karbamazepin,SS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Tretman psihotičnih stanja/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sihoaktivna supstanca/bihejvioralni aspek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poruka za tretman  psihotičnih simpt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k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operidol,zuklopentiksol ,aripripraz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ulan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operidol+BZ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ucinog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operid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lsiv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napin,lurasid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esiv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ozap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ihosocijalni tret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8229600" cy="30430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gnitivn/bihejv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tivacioni interv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hejvioralna 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personalna 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rodična 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mopomoć –”12 koraka” i 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k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io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ko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ulan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.Sthal,M.Grady.Stahl s Illustrated Substance Use and Impulsive Disorders,2012.Cambrige University Pr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.Latt,et al.Addiction medicine,2009.Oxford University Pr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.Nutt,L.Nestor.Addiction,2013.Oxford University Pr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.Iversen et al.Introduction to Neuropsychopharmacology,2009.Oxford University Pr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.Koob,N.Volkow.Neuropsychopharmacology:Neurocircuitry of Addiction- REVIEWS,2010.Nature Publishing Gro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.Scherrer et al.Prescription Opioid Analgesics Increase Risk of Depression.Published online,201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.Kalyna et al.Psychotropic Drugs,20th revised ed.,2014.Hogrefe Publish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HVAL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A PA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ŽNJI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898989"/>
                </a:solidFill>
                <a:latin typeface="Calibri"/>
              </a:rPr>
              <a:t>                     </a:t>
            </a:r>
            <a:r>
              <a:rPr b="0" lang="sr-Latn-CS" sz="2000" spc="-1" strike="noStrike">
                <a:solidFill>
                  <a:srgbClr val="898989"/>
                </a:solidFill>
                <a:latin typeface="Calibri"/>
              </a:rPr>
              <a:t>Fakultet medicinskih nauka,Univerziteta u Kraguje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Minja\Pictures\grb univerziteta.bmp"/>
          <p:cNvPicPr/>
          <p:nvPr/>
        </p:nvPicPr>
        <p:blipFill>
          <a:blip r:embed="rId1"/>
          <a:stretch/>
        </p:blipFill>
        <p:spPr>
          <a:xfrm>
            <a:off x="4114800" y="3048120"/>
            <a:ext cx="666720" cy="81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Minja\Pictures\grb med.fak.bmp"/>
          <p:cNvPicPr/>
          <p:nvPr/>
        </p:nvPicPr>
        <p:blipFill>
          <a:blip r:embed="rId2"/>
          <a:stretch/>
        </p:blipFill>
        <p:spPr>
          <a:xfrm>
            <a:off x="4114800" y="1905120"/>
            <a:ext cx="5904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Novo lice adikcij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Neophodan al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.Skrining metode za bolesti zavisnosti i njihova prim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2.Adekvatno vođene i primenljive strategije prevencije za pacijente u riziku od zavis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.Strategije tretmana za akutna i hronična st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4.Adekvatne tehnike monitoringa pacijenata u tretmanu,posebno u pogledu adh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5.Poznavanje skrivenih faktora rizika imajući u vidu kliničke,bihejvioralne i neurobiološke fakt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6.Diferancijalno dijagnostičke metode i tretman multidijagnostičkih probl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Ciklus adikc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ozitivna povratna spre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6" descr=""/>
          <p:cNvPicPr/>
          <p:nvPr/>
        </p:nvPicPr>
        <p:blipFill>
          <a:blip r:embed="rId1"/>
          <a:stretch/>
        </p:blipFill>
        <p:spPr>
          <a:xfrm>
            <a:off x="444600" y="2163600"/>
            <a:ext cx="4054320" cy="3962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Negativna povratna spre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7" descr=""/>
          <p:cNvPicPr/>
          <p:nvPr/>
        </p:nvPicPr>
        <p:blipFill>
          <a:blip r:embed="rId2"/>
          <a:stretch/>
        </p:blipFill>
        <p:spPr>
          <a:xfrm>
            <a:off x="4632480" y="2163600"/>
            <a:ext cx="4054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Od impulsivnog ka kompulsivn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Adikcija se može razumeti kao </a:t>
            </a:r>
            <a:r>
              <a:rPr b="0" lang="sr-Latn-CS" sz="3000" spc="-1" strike="noStrike">
                <a:solidFill>
                  <a:srgbClr val="ff0000"/>
                </a:solidFill>
                <a:latin typeface="Calibri"/>
              </a:rPr>
              <a:t>progresija od pozitivne do negativne povratne sprege,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ali i kao progresija od impulsivnog ka kompulsivnom poremećaj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Kod inicijalne ekspozicije drogama,individua doživljava zadovoljstvo/nagrad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Iskustvo uči mozak da anticipira nagradu pre sledeće ekspozicije-kada je droga uneta,zadovoljstvo/nagrada se ponovo javljaju i ako bi to moglo biti praćeno kajanj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Od impulsivnog ka kompulsivn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Za  većinu individua,povremeno i kontrolisano uzimanje droge ostaje impulsivni izbor vođen pozitivnom povratnom spregom,tj.nagrado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Za osobe sa faktorom rizika za adikciju,povremeno korišćenje droga prouzrokuje neurobiološke promene koje vode do pojave žudnje,redukovane nagrade pri ekspoziciji drogama i apstinencijalne krize/negativnog stanja koje se javlja tokom apstinenci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Tada se adikcija može konceptualizovati kao kompulzivni poremećaj vođen negativnom povratnom spregom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Više supstanci i/ili poremeća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Istraživanja vezana za tretman osoba koje koriste multiple supstance su, limitira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Zavisnici imaju povećan rizik za suicid,agresivna ponašanja i psihijatrijske poremećaj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U zavisnosti od težine oba poremećaja(zavisnost od PAS i psihijatrijski poremećaj,napr.),i ako je preporuka da treba tretirati oba poremećaja istovremeno- bolje je </a:t>
            </a:r>
            <a:r>
              <a:rPr b="0" lang="sr-Latn-CS" sz="3000" spc="-1" strike="noStrike">
                <a:solidFill>
                  <a:srgbClr val="ff0000"/>
                </a:solidFill>
                <a:latin typeface="Calibri"/>
              </a:rPr>
              <a:t>da tretman bude u sekvencama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sr-Latn-CS" sz="3000" spc="-1" strike="noStrike">
                <a:solidFill>
                  <a:srgbClr val="ff0000"/>
                </a:solidFill>
                <a:latin typeface="Calibri"/>
              </a:rPr>
              <a:t> nego simulta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Prioritet lečenj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U nekim slučajevima,napr. kod depresije,bolje je tretirati prvo zavisnost-da bi se diferencirali simptomi indukovani supstancom ,od onih drugi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U mnogim slučajevima,bolje je tretirati psihijatrijsku bolest, prvo –posebno ako su simptomi tež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U svakom slučaju,adherenca za psihijatrijsku medikaciju je bolja,ako tretiram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vo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bolest zavisno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Ova odluka o prioritetu lečenja mora biti doneta od slučaja do sluča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380880"/>
          <a:ext cx="8229600" cy="6434280"/>
        </p:xfrm>
        <a:graphic>
          <a:graphicData uri="http://schemas.openxmlformats.org/drawingml/2006/table">
            <a:tbl>
              <a:tblPr/>
              <a:tblGrid>
                <a:gridCol w="2286000"/>
                <a:gridCol w="1523880"/>
                <a:gridCol w="4419720"/>
              </a:tblGrid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hanizam porasta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0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ulan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porter dopamina D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kira DAT na DO neuronima od VTA do NAc (kokain) ili oslobađa DO sa DO završetaka (metamf,amf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ioi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-opioidni receptori M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zinhibicija DO naurona na VTA,inhibiranjem GABA interneurona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j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adrže MOR u VTA ili direktno aktiviraju neurone Nac koji sadrže M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ko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kotinski receptori(pretežno alfa4,beta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ktno aktivira DO neurone u VTA preko nikotinskih rec.ili indirektno,stimulacijom nik.rec. u glutamatergičkim završecima VTA (DO)neur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kohol i inhalan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pla-uključujući GABA i glutamatske recep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cijom GABA neurotransmisije,što može da dezinhibira VTA DO neurone preko GABA interneurona ili inhibira glutamatske završetke koji regulišu oslobađanje DO u Na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abinoi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abinoidi C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iše DO signalizaciju preko CB1 receptora u Nac neuronima i u GABA i glutamatskim zavšecima u N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16:07:43Z</dcterms:created>
  <dc:creator>Minja</dc:creator>
  <dc:description/>
  <dc:language>en-US</dc:language>
  <cp:lastModifiedBy>Minja</cp:lastModifiedBy>
  <dcterms:modified xsi:type="dcterms:W3CDTF">2017-01-30T22:28:17Z</dcterms:modified>
  <cp:revision>83</cp:revision>
  <dc:subject/>
  <dc:title>Slide 1</dc:title>
</cp:coreProperties>
</file>